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83.png" ContentType="image/png"/>
  <Override PartName="/ppt/media/image58.jpeg" ContentType="image/jpe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jpeg" ContentType="image/jpeg"/>
  <Override PartName="/ppt/media/image52.jpeg" ContentType="image/jpeg"/>
  <Override PartName="/ppt/media/image50.gif" ContentType="image/gif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3.jpeg" ContentType="image/jpeg"/>
  <Override PartName="/ppt/media/image36.png" ContentType="image/png"/>
  <Override PartName="/ppt/media/image9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17.png" ContentType="image/png"/>
  <Override PartName="/ppt/media/image38.png" ContentType="image/png"/>
  <Override PartName="/ppt/media/image8.jpeg" ContentType="image/jpeg"/>
  <Override PartName="/ppt/media/image41.jpeg" ContentType="image/jpeg"/>
  <Override PartName="/ppt/media/image14.jpeg" ContentType="image/jpeg"/>
  <Override PartName="/ppt/media/image54.png" ContentType="image/png"/>
  <Override PartName="/ppt/media/image76.jpeg" ContentType="image/jpeg"/>
  <Override PartName="/ppt/media/image49.jpeg" ContentType="image/jpeg"/>
  <Override PartName="/ppt/media/image18.jpeg" ContentType="image/jpeg"/>
  <Override PartName="/ppt/media/image22.gif" ContentType="image/gif"/>
  <Override PartName="/ppt/media/image24.png" ContentType="image/png"/>
  <Override PartName="/ppt/media/image73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5.jpeg" ContentType="image/jpeg"/>
  <Override PartName="/ppt/media/image80.png" ContentType="image/png"/>
  <Override PartName="/ppt/media/image65.jpeg" ContentType="image/jpeg"/>
  <Override PartName="/ppt/media/image3.jpeg" ContentType="image/jpeg"/>
  <Override PartName="/ppt/media/image37.jpeg" ContentType="image/jpeg"/>
  <Override PartName="/ppt/media/image79.jpeg" ContentType="image/jpeg"/>
  <Override PartName="/ppt/media/image81.jpeg" ContentType="image/jpeg"/>
  <Override PartName="/ppt/media/image75.png" ContentType="image/png"/>
  <Override PartName="/ppt/media/image72.png" ContentType="image/png"/>
  <Override PartName="/ppt/media/image69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16.png" ContentType="image/png"/>
  <Override PartName="/ppt/media/image7.jpeg" ContentType="image/jpeg"/>
  <Override PartName="/ppt/media/image68.png" ContentType="image/png"/>
  <Override PartName="/ppt/media/image67.jpeg" ContentType="image/jpeg"/>
  <Override PartName="/ppt/media/image66.jpeg" ContentType="image/jpeg"/>
  <Override PartName="/ppt/media/image6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27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EA0-E2FA-4908-BEF6-F2D427C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2B2-D9E9-476C-B4FF-8491BA2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7FC-5695-415A-B683-BC29D19F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2A8-D957-41D2-BE61-2A66ED23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684F-0C97-4513-A31D-15B30858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8086-5EF9-4267-9661-89EAEA89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FE6-9603-4FE0-B975-7553BC84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F4EF-5B6F-41A5-9926-F96CC2AC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909-EBD2-4965-AD27-81774D5F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C15E-82CA-4646-8534-FF698F1D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14A3-D0E0-489B-9EDA-CBA474C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620-275C-4861-8237-3C419A21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BF5D-C08F-46B8-BABC-73E5BE6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A37-2A30-40DE-B90B-3D962BA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4F7D-7A61-41FA-9566-1344BE57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4519-6B0C-4D65-A0F1-FC8C598C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0361-C5E2-4923-B002-BB586A49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43C2-AFCB-48E0-9EC2-DCADD21F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F887-D959-41C6-8030-2AEFA17E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C797-867A-4557-BA94-6743003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9912-1E59-441B-AD75-B511D6ED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59D9-BD32-4ECF-820B-208D435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9B8-756D-420F-9D34-C24C1416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5B23-760D-408A-9A15-515650C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0EFA-F92C-476A-A876-DDF8DC8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B1D3-76A6-413E-86FD-3E8FD4E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0163-2227-44DB-A902-FA4E90C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E715-69D2-4E20-BACD-B1138C13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372E-7048-41F4-8F04-D1EB6E23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FE48-40C1-48CE-9587-3608C774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5EF-2188-425F-A398-3A1B716C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A2E-5C49-45CC-96D2-FC49332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ACB-AF51-4C4A-9EA3-1E24B87B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4B9-6E82-4074-B335-C4D41B0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A01-8D71-4467-ADDE-F44C1D6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5D2-870E-4843-863A-6A1A4B56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E192-112B-4DEA-8A31-1FE455509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325F-6DE9-455A-A2BC-0B754A6F8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9FFD-2A51-4975-B4AC-892003A48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" Target="slide12.xml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slide" Target="slide13.xml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png"/><Relationship Id="rId7" Type="http://schemas.openxmlformats.org/officeDocument/2006/relationships/image" Target="../media/image6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" Target="slide16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image" Target="../media/image76.jpeg"/><Relationship Id="rId4" Type="http://schemas.openxmlformats.org/officeDocument/2006/relationships/image" Target="../media/image76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7.jpeg"/><Relationship Id="rId8" Type="http://schemas.openxmlformats.org/officeDocument/2006/relationships/image" Target="../media/image78.png"/><Relationship Id="rId9" Type="http://schemas.openxmlformats.org/officeDocument/2006/relationships/image" Target="../media/image70.png"/><Relationship Id="rId10" Type="http://schemas.openxmlformats.org/officeDocument/2006/relationships/image" Target="../media/image79.jpeg"/><Relationship Id="rId11" Type="http://schemas.openxmlformats.org/officeDocument/2006/relationships/image" Target="../media/image80.png"/><Relationship Id="rId12" Type="http://schemas.openxmlformats.org/officeDocument/2006/relationships/image" Target="../media/image80.png"/><Relationship Id="rId13" Type="http://schemas.openxmlformats.org/officeDocument/2006/relationships/image" Target="../media/image81.jpeg"/><Relationship Id="rId14" Type="http://schemas.openxmlformats.org/officeDocument/2006/relationships/image" Target="../media/image82.jpeg"/><Relationship Id="rId15" Type="http://schemas.openxmlformats.org/officeDocument/2006/relationships/image" Target="../media/image83.png"/><Relationship Id="rId16" Type="http://schemas.openxmlformats.org/officeDocument/2006/relationships/image" Target="../media/image84.jpe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image" Target="../media/image10.jpeg"/><Relationship Id="rId5" Type="http://schemas.openxmlformats.org/officeDocument/2006/relationships/slide" Target="slide6.xml"/><Relationship Id="rId6" Type="http://schemas.openxmlformats.org/officeDocument/2006/relationships/image" Target="../media/image11.jpeg"/><Relationship Id="rId7" Type="http://schemas.openxmlformats.org/officeDocument/2006/relationships/slide" Target="slide5.xml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" Target="slide7.xml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etodist.lbz.ru/authors/informatika/3/" TargetMode="External"/><Relationship Id="rId2" Type="http://schemas.openxmlformats.org/officeDocument/2006/relationships/hyperlink" Target="http://www.metod-kopilka.ru/" TargetMode="External"/><Relationship Id="rId3" Type="http://schemas.openxmlformats.org/officeDocument/2006/relationships/hyperlink" Target="http://www.forchel.ru/uploads/posts/2011-05/1305560299_prevyu.jpg" TargetMode="External"/><Relationship Id="rId4" Type="http://schemas.openxmlformats.org/officeDocument/2006/relationships/hyperlink" Target="http://quadropolis.us/files/music-note-icon_Copy.png" TargetMode="External"/><Relationship Id="rId5" Type="http://schemas.openxmlformats.org/officeDocument/2006/relationships/hyperlink" Target="http://www.bookin.org.ru/book/2756898.jpg" TargetMode="External"/><Relationship Id="rId6" Type="http://schemas.openxmlformats.org/officeDocument/2006/relationships/hyperlink" Target="http://img10.proshkolu.ru/content/media/pic/std/4000000/3525000/3524102-3386d2d119d450ac.gif" TargetMode="External"/><Relationship Id="rId7" Type="http://schemas.openxmlformats.org/officeDocument/2006/relationships/hyperlink" Target="http://www.motto.net.ua/pic/201209/1152x864/motto.net.ua-12379.jpg" TargetMode="External"/><Relationship Id="rId8" Type="http://schemas.openxmlformats.org/officeDocument/2006/relationships/hyperlink" Target="http://www.itpremium.com/portfolio/2dgraphics/wizard.jpg?width=300" TargetMode="External"/><Relationship Id="rId9" Type="http://schemas.openxmlformats.org/officeDocument/2006/relationships/hyperlink" Target="http://supersadovod.ru/wp-content/uploads/2014/01/preview.jpg" TargetMode="External"/><Relationship Id="rId10" Type="http://schemas.openxmlformats.org/officeDocument/2006/relationships/image" Target="../media/image8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jpeg"/><Relationship Id="rId15" Type="http://schemas.openxmlformats.org/officeDocument/2006/relationships/image" Target="../media/image36.png"/><Relationship Id="rId16" Type="http://schemas.openxmlformats.org/officeDocument/2006/relationships/image" Target="../media/image37.jpeg"/><Relationship Id="rId17" Type="http://schemas.openxmlformats.org/officeDocument/2006/relationships/image" Target="../media/image38.png"/><Relationship Id="rId18" Type="http://schemas.openxmlformats.org/officeDocument/2006/relationships/image" Target="../media/image39.jpeg"/><Relationship Id="rId19" Type="http://schemas.openxmlformats.org/officeDocument/2006/relationships/slide" Target="slide9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6568200" y="199692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460480" y="571644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567440" y="333360"/>
            <a:ext cx="47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Расшифруем 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9"/>
          <p:cNvGrpSpPr/>
          <p:nvPr/>
        </p:nvGrpSpPr>
        <p:grpSpPr>
          <a:xfrm>
            <a:off x="217440" y="1465200"/>
            <a:ext cx="6045120" cy="1417680"/>
            <a:chOff x="217440" y="1465200"/>
            <a:chExt cx="6045120" cy="1417680"/>
          </a:xfrm>
        </p:grpSpPr>
        <p:pic>
          <p:nvPicPr>
            <p:cNvPr id="127" name="Рисунок 7" descr="Вырезка экрана"/>
            <p:cNvPicPr/>
            <p:nvPr/>
          </p:nvPicPr>
          <p:blipFill>
            <a:blip r:embed="rId1"/>
            <a:stretch/>
          </p:blipFill>
          <p:spPr>
            <a:xfrm>
              <a:off x="217440" y="1465200"/>
              <a:ext cx="498024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Рисунок 8" descr="Вырезка экрана"/>
            <p:cNvPicPr/>
            <p:nvPr/>
          </p:nvPicPr>
          <p:blipFill>
            <a:blip r:embed="rId2"/>
            <a:stretch/>
          </p:blipFill>
          <p:spPr>
            <a:xfrm>
              <a:off x="5197680" y="1465200"/>
              <a:ext cx="1064880" cy="14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Группа 15"/>
          <p:cNvGrpSpPr/>
          <p:nvPr/>
        </p:nvGrpSpPr>
        <p:grpSpPr>
          <a:xfrm>
            <a:off x="446040" y="3548160"/>
            <a:ext cx="6996240" cy="1239840"/>
            <a:chOff x="446040" y="3548160"/>
            <a:chExt cx="6996240" cy="1239840"/>
          </a:xfrm>
        </p:grpSpPr>
        <p:pic>
          <p:nvPicPr>
            <p:cNvPr id="130" name="Рисунок 11" descr="Вырезка экрана"/>
            <p:cNvPicPr/>
            <p:nvPr/>
          </p:nvPicPr>
          <p:blipFill>
            <a:blip r:embed="rId3"/>
            <a:stretch/>
          </p:blipFill>
          <p:spPr>
            <a:xfrm>
              <a:off x="446040" y="3548160"/>
              <a:ext cx="2166120" cy="12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Группа 14"/>
            <p:cNvGrpSpPr/>
            <p:nvPr/>
          </p:nvGrpSpPr>
          <p:grpSpPr>
            <a:xfrm>
              <a:off x="2604960" y="3548160"/>
              <a:ext cx="4837320" cy="1239840"/>
              <a:chOff x="2604960" y="3548160"/>
              <a:chExt cx="4837320" cy="1239840"/>
            </a:xfrm>
          </p:grpSpPr>
          <p:pic>
            <p:nvPicPr>
              <p:cNvPr id="132" name="Рисунок 12" descr="Вырезка экрана"/>
              <p:cNvPicPr/>
              <p:nvPr/>
            </p:nvPicPr>
            <p:blipFill>
              <a:blip r:embed="rId4"/>
              <a:stretch/>
            </p:blipFill>
            <p:spPr>
              <a:xfrm>
                <a:off x="2604960" y="3548160"/>
                <a:ext cx="3983040" cy="12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Рисунок 13" descr="Вырезка экрана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3548160"/>
                <a:ext cx="854280" cy="1239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Группа 4"/>
          <p:cNvGrpSpPr/>
          <p:nvPr/>
        </p:nvGrpSpPr>
        <p:grpSpPr>
          <a:xfrm>
            <a:off x="6365880" y="1442880"/>
            <a:ext cx="2166840" cy="1770120"/>
            <a:chOff x="6365880" y="1442880"/>
            <a:chExt cx="2166840" cy="1770120"/>
          </a:xfrm>
        </p:grpSpPr>
        <p:pic>
          <p:nvPicPr>
            <p:cNvPr id="135" name="Picture 5" descr=""/>
            <p:cNvPicPr/>
            <p:nvPr/>
          </p:nvPicPr>
          <p:blipFill>
            <a:blip r:embed="rId6"/>
            <a:stretch/>
          </p:blipFill>
          <p:spPr>
            <a:xfrm>
              <a:off x="6365880" y="1442880"/>
              <a:ext cx="216684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3"/>
            <p:cNvSpPr/>
            <p:nvPr/>
          </p:nvSpPr>
          <p:spPr>
            <a:xfrm>
              <a:off x="6869520" y="242820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16"/>
          <p:cNvGrpSpPr/>
          <p:nvPr/>
        </p:nvGrpSpPr>
        <p:grpSpPr>
          <a:xfrm>
            <a:off x="5345280" y="5046840"/>
            <a:ext cx="2143080" cy="1695240"/>
            <a:chOff x="5345280" y="5046840"/>
            <a:chExt cx="2143080" cy="1695240"/>
          </a:xfrm>
        </p:grpSpPr>
        <p:grpSp>
          <p:nvGrpSpPr>
            <p:cNvPr id="138" name="Группа 6"/>
            <p:cNvGrpSpPr/>
            <p:nvPr/>
          </p:nvGrpSpPr>
          <p:grpSpPr>
            <a:xfrm>
              <a:off x="5345280" y="5046840"/>
              <a:ext cx="2143080" cy="1695240"/>
              <a:chOff x="5345280" y="5046840"/>
              <a:chExt cx="2143080" cy="1695240"/>
            </a:xfrm>
          </p:grpSpPr>
          <p:sp>
            <p:nvSpPr>
              <p:cNvPr id="139" name="TextBox 10"/>
              <p:cNvSpPr/>
              <p:nvPr/>
            </p:nvSpPr>
            <p:spPr>
              <a:xfrm>
                <a:off x="5837040" y="6028560"/>
                <a:ext cx="115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ровер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Picture 6" descr=""/>
              <p:cNvPicPr/>
              <p:nvPr/>
            </p:nvPicPr>
            <p:blipFill>
              <a:blip r:embed="rId7"/>
              <a:stretch/>
            </p:blipFill>
            <p:spPr>
              <a:xfrm>
                <a:off x="5345280" y="5046840"/>
                <a:ext cx="2143080" cy="16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TextBox 21"/>
            <p:cNvSpPr/>
            <p:nvPr/>
          </p:nvSpPr>
          <p:spPr>
            <a:xfrm>
              <a:off x="5823000" y="601236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Скругленный прямоугольник 4"/>
          <p:cNvSpPr/>
          <p:nvPr/>
        </p:nvSpPr>
        <p:spPr>
          <a:xfrm>
            <a:off x="3635280" y="1197000"/>
            <a:ext cx="5113440" cy="46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"/>
          <p:cNvSpPr/>
          <p:nvPr/>
        </p:nvSpPr>
        <p:spPr>
          <a:xfrm>
            <a:off x="3780000" y="1197000"/>
            <a:ext cx="514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бот думал и гад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он так уст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рути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вокруг он улыб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 большой надул, огром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улся тот такой него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аш Робот не грус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за парту сесть спеш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179280" y="260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profesores.fi-b.unam.mx/guevarod/indexdisposi_archivos/image003.gif"/>
          <p:cNvPicPr/>
          <p:nvPr/>
        </p:nvPicPr>
        <p:blipFill>
          <a:blip r:embed="rId1"/>
          <a:stretch/>
        </p:blipFill>
        <p:spPr>
          <a:xfrm>
            <a:off x="-324000" y="1125360"/>
            <a:ext cx="264492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5150520" y="4724280"/>
            <a:ext cx="367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Т ТОПОТА КОПЫ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ПЫЛЬ ПО ПО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ЛЕ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1042920" y="3510000"/>
            <a:ext cx="6408720" cy="1069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324000" y="85680"/>
            <a:ext cx="7819920" cy="733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0" y="3213000"/>
            <a:ext cx="905040" cy="94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4"/>
          <a:srcRect l="0" t="0" r="8" b="-32"/>
          <a:stretch/>
        </p:blipFill>
        <p:spPr>
          <a:xfrm>
            <a:off x="114480" y="4600440"/>
            <a:ext cx="4667040" cy="2181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5"/>
          <a:stretch/>
        </p:blipFill>
        <p:spPr>
          <a:xfrm>
            <a:off x="5095800" y="4668840"/>
            <a:ext cx="3783240" cy="21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908000" y="836640"/>
          <a:ext cx="4896000" cy="2773440"/>
        </p:xfrm>
        <a:graphic>
          <a:graphicData uri="http://schemas.openxmlformats.org/drawingml/2006/table">
            <a:tbl>
              <a:tblPr/>
              <a:tblGrid>
                <a:gridCol w="489240"/>
                <a:gridCol w="490320"/>
                <a:gridCol w="488880"/>
                <a:gridCol w="490680"/>
                <a:gridCol w="488880"/>
                <a:gridCol w="488880"/>
                <a:gridCol w="490680"/>
                <a:gridCol w="488880"/>
                <a:gridCol w="490680"/>
                <a:gridCol w="488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21" name="Picture 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46920" y="3021120"/>
            <a:ext cx="970200" cy="7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733640" cy="4600800"/>
          </a:xfrm>
          <a:prstGeom prst="rect">
            <a:avLst/>
          </a:prstGeom>
          <a:ln w="0">
            <a:noFill/>
          </a:ln>
        </p:spPr>
      </p:pic>
      <p:sp>
        <p:nvSpPr>
          <p:cNvPr id="223" name="Овал 1"/>
          <p:cNvSpPr/>
          <p:nvPr/>
        </p:nvSpPr>
        <p:spPr>
          <a:xfrm>
            <a:off x="4254480" y="4581360"/>
            <a:ext cx="1443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235400" y="278136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71720" cy="171720"/>
          </a:xfrm>
          <a:prstGeom prst="rect">
            <a:avLst/>
          </a:prstGeom>
          <a:ln w="0">
            <a:noFill/>
          </a:ln>
        </p:spPr>
      </p:pic>
      <p:cxnSp>
        <p:nvCxnSpPr>
          <p:cNvPr id="226" name="Прямая со стрелкой 4"/>
          <p:cNvCxnSpPr/>
          <p:nvPr/>
        </p:nvCxnSpPr>
        <p:spPr>
          <a:xfrm flipV="1">
            <a:off x="4320720" y="475920"/>
            <a:ext cx="1080" cy="417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Прямая со стрелкой 6"/>
          <p:cNvCxnSpPr/>
          <p:nvPr/>
        </p:nvCxnSpPr>
        <p:spPr>
          <a:xfrm flipV="1">
            <a:off x="4320720" y="4652640"/>
            <a:ext cx="44283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8" name="Picture 6" descr=""/>
          <p:cNvPicPr/>
          <p:nvPr/>
        </p:nvPicPr>
        <p:blipFill>
          <a:blip r:embed="rId4"/>
          <a:stretch/>
        </p:blipFill>
        <p:spPr>
          <a:xfrm>
            <a:off x="611280" y="260280"/>
            <a:ext cx="259056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5"/>
          <a:srcRect l="0" t="0" r="0" b="-205"/>
          <a:stretch/>
        </p:blipFill>
        <p:spPr>
          <a:xfrm>
            <a:off x="611280" y="3306600"/>
            <a:ext cx="2543040" cy="158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6"/>
          <a:stretch/>
        </p:blipFill>
        <p:spPr>
          <a:xfrm>
            <a:off x="692280" y="5492880"/>
            <a:ext cx="7086600" cy="904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7"/>
          <a:stretch/>
        </p:blipFill>
        <p:spPr>
          <a:xfrm>
            <a:off x="171360" y="331920"/>
            <a:ext cx="4064040" cy="4467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904160" y="5732640"/>
            <a:ext cx="969840" cy="7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Главное окно  </a:t>
            </a: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Robo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920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Вырезка экрана"/>
          <p:cNvPicPr/>
          <p:nvPr/>
        </p:nvPicPr>
        <p:blipFill>
          <a:blip r:embed="rId1"/>
          <a:stretch/>
        </p:blipFill>
        <p:spPr>
          <a:xfrm>
            <a:off x="287280" y="5950080"/>
            <a:ext cx="405144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Вырезка экрана"/>
          <p:cNvPicPr/>
          <p:nvPr/>
        </p:nvPicPr>
        <p:blipFill>
          <a:blip r:embed="rId2"/>
          <a:stretch/>
        </p:blipFill>
        <p:spPr>
          <a:xfrm>
            <a:off x="285840" y="1268280"/>
            <a:ext cx="4027320" cy="156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Вырезка экрана"/>
          <p:cNvPicPr/>
          <p:nvPr/>
        </p:nvPicPr>
        <p:blipFill>
          <a:blip r:embed="rId3"/>
          <a:stretch/>
        </p:blipFill>
        <p:spPr>
          <a:xfrm>
            <a:off x="297000" y="3068640"/>
            <a:ext cx="4051080" cy="1457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Вырезка экрана"/>
          <p:cNvPicPr/>
          <p:nvPr/>
        </p:nvPicPr>
        <p:blipFill>
          <a:blip r:embed="rId4"/>
          <a:stretch/>
        </p:blipFill>
        <p:spPr>
          <a:xfrm>
            <a:off x="287280" y="4797360"/>
            <a:ext cx="4070520" cy="988920"/>
          </a:xfrm>
          <a:prstGeom prst="rect">
            <a:avLst/>
          </a:prstGeom>
          <a:ln w="0">
            <a:noFill/>
          </a:ln>
        </p:spPr>
      </p:pic>
      <p:grpSp>
        <p:nvGrpSpPr>
          <p:cNvPr id="239" name="Группа 7"/>
          <p:cNvGrpSpPr/>
          <p:nvPr/>
        </p:nvGrpSpPr>
        <p:grpSpPr>
          <a:xfrm>
            <a:off x="5076720" y="1268280"/>
            <a:ext cx="2590920" cy="2449800"/>
            <a:chOff x="5076720" y="1268280"/>
            <a:chExt cx="2590920" cy="2449800"/>
          </a:xfrm>
        </p:grpSpPr>
        <p:pic>
          <p:nvPicPr>
            <p:cNvPr id="240" name="Рисунок 1" descr="Вырезка экрана"/>
            <p:cNvPicPr/>
            <p:nvPr/>
          </p:nvPicPr>
          <p:blipFill>
            <a:blip r:embed="rId5"/>
            <a:srcRect l="0" t="0" r="182" b="0"/>
            <a:stretch/>
          </p:blipFill>
          <p:spPr>
            <a:xfrm>
              <a:off x="5076720" y="1268280"/>
              <a:ext cx="259092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" descr=""/>
            <p:cNvPicPr/>
            <p:nvPr/>
          </p:nvPicPr>
          <p:blipFill>
            <a:blip r:embed="rId6"/>
            <a:stretch/>
          </p:blipFill>
          <p:spPr>
            <a:xfrm>
              <a:off x="7102800" y="3148200"/>
              <a:ext cx="562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3" descr=""/>
            <p:cNvPicPr/>
            <p:nvPr/>
          </p:nvPicPr>
          <p:blipFill>
            <a:blip r:embed="rId7"/>
            <a:stretch/>
          </p:blipFill>
          <p:spPr>
            <a:xfrm>
              <a:off x="7020000" y="1858680"/>
              <a:ext cx="647640" cy="6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Прямоугольник 8"/>
          <p:cNvSpPr/>
          <p:nvPr/>
        </p:nvSpPr>
        <p:spPr>
          <a:xfrm>
            <a:off x="297000" y="1364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Основные коман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80" y="10800"/>
            <a:ext cx="90360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Расшифруйте команды с помощью кодовой таблицы азбуки Мор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2920" y="836640"/>
          <a:ext cx="5661000" cy="3657600"/>
        </p:xfrm>
        <a:graphic>
          <a:graphicData uri="http://schemas.openxmlformats.org/drawingml/2006/table">
            <a:tbl>
              <a:tblPr/>
              <a:tblGrid>
                <a:gridCol w="528480"/>
                <a:gridCol w="792000"/>
                <a:gridCol w="527040"/>
                <a:gridCol w="844560"/>
                <a:gridCol w="581040"/>
                <a:gridCol w="846360"/>
                <a:gridCol w="579240"/>
                <a:gridCol w="96228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―  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― ―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 • • •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― ―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•  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― •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―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•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― ―• ―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― ―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― •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•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• ―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― •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• ―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• •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• ―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• ― •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• •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― 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• ―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• ―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― • 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― ― 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― ― ― 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•  ―  • 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46" name="Прямоугольник 3"/>
          <p:cNvSpPr/>
          <p:nvPr/>
        </p:nvSpPr>
        <p:spPr>
          <a:xfrm>
            <a:off x="468360" y="46418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―  •     • ―     ― ― ― •    • ―     • ― • •     ― ― 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250920" y="5300640"/>
            <a:ext cx="76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― ―   ― ― ―    ―     ― ― ―   • ― •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• ―    • ― ―  • ―― •    •      • ― 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254160" y="611172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• • • ―    ― • •     • 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659640" y="4419720"/>
            <a:ext cx="596880" cy="5918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7" descr="Вырезка экрана"/>
          <p:cNvPicPr/>
          <p:nvPr/>
        </p:nvPicPr>
        <p:blipFill>
          <a:blip r:embed="rId2"/>
          <a:stretch/>
        </p:blipFill>
        <p:spPr>
          <a:xfrm>
            <a:off x="8159760" y="5176800"/>
            <a:ext cx="611280" cy="61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5" descr=""/>
          <p:cNvPicPr/>
          <p:nvPr/>
        </p:nvPicPr>
        <p:blipFill>
          <a:blip r:embed="rId3"/>
          <a:stretch/>
        </p:blipFill>
        <p:spPr>
          <a:xfrm>
            <a:off x="3205080" y="6111720"/>
            <a:ext cx="569880" cy="551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7470720" y="45306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6958080" y="591516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ор А 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4095720" y="62024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86720" y="2133720"/>
            <a:ext cx="969840" cy="7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«Прочитайте»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rcRect l="0" t="0" r="-37" b="-294"/>
          <a:stretch/>
        </p:blipFill>
        <p:spPr>
          <a:xfrm>
            <a:off x="965160" y="3722760"/>
            <a:ext cx="8132760" cy="9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468360" y="19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439560" y="40752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2"/>
          <a:srcRect l="0" t="0" r="-6" b="511"/>
          <a:stretch/>
        </p:blipFill>
        <p:spPr>
          <a:xfrm>
            <a:off x="1230480" y="1916280"/>
            <a:ext cx="6499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6180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Используя предлагаемый набор пиктограмм, составьте программу, которая выполняет следующие действ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971640" y="141300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моторы А и С на 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ет моторы А и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ет 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моторы А и С в обратном направлении на 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звуковой сигнал и ждет 1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7"/>
          <p:cNvSpPr/>
          <p:nvPr/>
        </p:nvSpPr>
        <p:spPr>
          <a:xfrm>
            <a:off x="826920" y="4476600"/>
            <a:ext cx="7920360" cy="0"/>
          </a:xfrm>
          <a:prstGeom prst="line">
            <a:avLst/>
          </a:prstGeom>
          <a:ln w="54000">
            <a:solidFill>
              <a:srgbClr val="f5a1e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2"/>
          <a:srcRect l="93879" t="3427" r="-6" b="12654"/>
          <a:stretch/>
        </p:blipFill>
        <p:spPr>
          <a:xfrm>
            <a:off x="7899480" y="5467320"/>
            <a:ext cx="56196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rcRect l="45978" t="2988" r="47167" b="11424"/>
          <a:stretch/>
        </p:blipFill>
        <p:spPr>
          <a:xfrm>
            <a:off x="1982880" y="5500800"/>
            <a:ext cx="576000" cy="56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4"/>
          <a:srcRect l="23326" t="0" r="70632" b="879"/>
          <a:stretch/>
        </p:blipFill>
        <p:spPr>
          <a:xfrm>
            <a:off x="2706840" y="5445000"/>
            <a:ext cx="537840" cy="58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5"/>
          <a:srcRect l="0" t="3603" r="94419" b="5448"/>
          <a:stretch/>
        </p:blipFill>
        <p:spPr>
          <a:xfrm>
            <a:off x="3376440" y="5454720"/>
            <a:ext cx="562320" cy="549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6"/>
          <a:stretch/>
        </p:blipFill>
        <p:spPr>
          <a:xfrm>
            <a:off x="2104920" y="6143760"/>
            <a:ext cx="596880" cy="615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7"/>
          <a:stretch/>
        </p:blipFill>
        <p:spPr>
          <a:xfrm>
            <a:off x="4737240" y="5421240"/>
            <a:ext cx="596880" cy="615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8"/>
          <a:stretch/>
        </p:blipFill>
        <p:spPr>
          <a:xfrm>
            <a:off x="1187280" y="5535720"/>
            <a:ext cx="573120" cy="56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9"/>
          <a:stretch/>
        </p:blipFill>
        <p:spPr>
          <a:xfrm>
            <a:off x="4737240" y="6132600"/>
            <a:ext cx="596880" cy="59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10"/>
          <a:stretch/>
        </p:blipFill>
        <p:spPr>
          <a:xfrm>
            <a:off x="5450040" y="5411880"/>
            <a:ext cx="615960" cy="622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11"/>
          <a:stretch/>
        </p:blipFill>
        <p:spPr>
          <a:xfrm>
            <a:off x="7845480" y="6102360"/>
            <a:ext cx="615960" cy="622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12"/>
          <a:stretch/>
        </p:blipFill>
        <p:spPr>
          <a:xfrm>
            <a:off x="4035600" y="5411880"/>
            <a:ext cx="615600" cy="622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"/>
          <p:cNvPicPr/>
          <p:nvPr/>
        </p:nvPicPr>
        <p:blipFill>
          <a:blip r:embed="rId13"/>
          <a:stretch/>
        </p:blipFill>
        <p:spPr>
          <a:xfrm>
            <a:off x="6275520" y="5427720"/>
            <a:ext cx="609480" cy="622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"/>
          <p:cNvPicPr/>
          <p:nvPr/>
        </p:nvPicPr>
        <p:blipFill>
          <a:blip r:embed="rId14"/>
          <a:stretch/>
        </p:blipFill>
        <p:spPr>
          <a:xfrm>
            <a:off x="7126200" y="5454720"/>
            <a:ext cx="579600" cy="554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"/>
          <p:cNvPicPr/>
          <p:nvPr/>
        </p:nvPicPr>
        <p:blipFill>
          <a:blip r:embed="rId15"/>
          <a:stretch/>
        </p:blipFill>
        <p:spPr>
          <a:xfrm>
            <a:off x="6380280" y="6103800"/>
            <a:ext cx="573120" cy="549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6" descr=""/>
          <p:cNvPicPr/>
          <p:nvPr/>
        </p:nvPicPr>
        <p:blipFill>
          <a:blip r:embed="rId16"/>
          <a:stretch/>
        </p:blipFill>
        <p:spPr>
          <a:xfrm>
            <a:off x="3438360" y="6164280"/>
            <a:ext cx="557280" cy="60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"/>
          <p:cNvPicPr/>
          <p:nvPr/>
        </p:nvPicPr>
        <p:blipFill>
          <a:blip r:embed="rId17"/>
          <a:stretch/>
        </p:blipFill>
        <p:spPr>
          <a:xfrm>
            <a:off x="7975440" y="2276640"/>
            <a:ext cx="97020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Скругленный прямоугольник 1"/>
          <p:cNvSpPr/>
          <p:nvPr/>
        </p:nvSpPr>
        <p:spPr>
          <a:xfrm>
            <a:off x="684360" y="333360"/>
            <a:ext cx="7127640" cy="496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55640" y="476280"/>
            <a:ext cx="734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Можете ли вы назвать тему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Дайте определение основных понятий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Я умею  разрабатывать план действий  отлично, хорошо, надо потрениро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126080" y="5516640"/>
            <a:ext cx="423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- 2 «звезды» – оценка 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 - 4 «звезды»  – оценка 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5  и более «звезд»  – оценка 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1547640" y="306864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бята, вы 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332000" y="414972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20"/>
          <p:cNvSpPr/>
          <p:nvPr/>
        </p:nvSpPr>
        <p:spPr>
          <a:xfrm>
            <a:off x="741240" y="503244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9"/>
          <p:cNvSpPr/>
          <p:nvPr/>
        </p:nvSpPr>
        <p:spPr>
          <a:xfrm>
            <a:off x="746280" y="398772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8"/>
          <p:cNvSpPr/>
          <p:nvPr/>
        </p:nvSpPr>
        <p:spPr>
          <a:xfrm>
            <a:off x="746280" y="294804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7"/>
          <p:cNvSpPr/>
          <p:nvPr/>
        </p:nvSpPr>
        <p:spPr>
          <a:xfrm>
            <a:off x="741240" y="1881360"/>
            <a:ext cx="136692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>
            <a:hlinkClick r:id="rId1" action="ppaction://hlinksldjump"/>
          </p:cNvPr>
          <p:cNvPicPr/>
          <p:nvPr/>
        </p:nvPicPr>
        <p:blipFill>
          <a:blip r:embed="rId2"/>
          <a:srcRect l="0" t="0" r="87" b="0"/>
          <a:stretch/>
        </p:blipFill>
        <p:spPr>
          <a:xfrm>
            <a:off x="3962520" y="1143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>
            <a:hlinkClick r:id="rId3" action="ppaction://hlinksldjump"/>
          </p:cNvPr>
          <p:cNvPicPr/>
          <p:nvPr/>
        </p:nvPicPr>
        <p:blipFill>
          <a:blip r:embed="rId4"/>
          <a:srcRect l="0" t="0" r="0" b="-467"/>
          <a:stretch/>
        </p:blipFill>
        <p:spPr>
          <a:xfrm>
            <a:off x="4029120" y="2654280"/>
            <a:ext cx="904680" cy="852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16240" y="4008600"/>
            <a:ext cx="730440" cy="100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29120" y="5308560"/>
            <a:ext cx="1085760" cy="8762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5"/>
          <p:cNvSpPr/>
          <p:nvPr/>
        </p:nvSpPr>
        <p:spPr>
          <a:xfrm>
            <a:off x="2795400" y="331920"/>
            <a:ext cx="49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Игра «Цепочки сл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"/>
          <p:cNvSpPr/>
          <p:nvPr/>
        </p:nvSpPr>
        <p:spPr>
          <a:xfrm>
            <a:off x="741240" y="83808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3"/>
          <p:cNvGrpSpPr/>
          <p:nvPr/>
        </p:nvGrpSpPr>
        <p:grpSpPr>
          <a:xfrm>
            <a:off x="2216160" y="1881360"/>
            <a:ext cx="1374840" cy="4014720"/>
            <a:chOff x="2216160" y="1881360"/>
            <a:chExt cx="1374840" cy="4014720"/>
          </a:xfrm>
        </p:grpSpPr>
        <p:sp>
          <p:nvSpPr>
            <p:cNvPr id="153" name="Скругленный прямоугольник 22"/>
            <p:cNvSpPr/>
            <p:nvPr/>
          </p:nvSpPr>
          <p:spPr>
            <a:xfrm>
              <a:off x="2216160" y="5032440"/>
              <a:ext cx="1368720" cy="86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Скругленный прямоугольник 23"/>
            <p:cNvSpPr/>
            <p:nvPr/>
          </p:nvSpPr>
          <p:spPr>
            <a:xfrm>
              <a:off x="2222280" y="3988080"/>
              <a:ext cx="136872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Скругленный прямоугольник 24"/>
            <p:cNvSpPr/>
            <p:nvPr/>
          </p:nvSpPr>
          <p:spPr>
            <a:xfrm>
              <a:off x="2222280" y="2948040"/>
              <a:ext cx="1368720" cy="86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Скругленный прямоугольник 25"/>
            <p:cNvSpPr/>
            <p:nvPr/>
          </p:nvSpPr>
          <p:spPr>
            <a:xfrm>
              <a:off x="2216160" y="1881360"/>
              <a:ext cx="1368720" cy="86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6" descr=""/>
            <p:cNvPicPr/>
            <p:nvPr/>
          </p:nvPicPr>
          <p:blipFill>
            <a:blip r:embed="rId9"/>
            <a:stretch/>
          </p:blipFill>
          <p:spPr>
            <a:xfrm>
              <a:off x="2342880" y="1998720"/>
              <a:ext cx="106776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"/>
            <p:cNvPicPr/>
            <p:nvPr/>
          </p:nvPicPr>
          <p:blipFill>
            <a:blip r:embed="rId10"/>
            <a:stretch/>
          </p:blipFill>
          <p:spPr>
            <a:xfrm>
              <a:off x="2366640" y="2997360"/>
              <a:ext cx="106776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"/>
            <p:cNvPicPr/>
            <p:nvPr/>
          </p:nvPicPr>
          <p:blipFill>
            <a:blip r:embed="rId11"/>
            <a:stretch/>
          </p:blipFill>
          <p:spPr>
            <a:xfrm>
              <a:off x="2334240" y="4101840"/>
              <a:ext cx="106776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" descr=""/>
            <p:cNvPicPr/>
            <p:nvPr/>
          </p:nvPicPr>
          <p:blipFill>
            <a:blip r:embed="rId12"/>
            <a:stretch/>
          </p:blipFill>
          <p:spPr>
            <a:xfrm>
              <a:off x="2343600" y="5159880"/>
              <a:ext cx="1067760" cy="59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TextBox 31"/>
          <p:cNvSpPr/>
          <p:nvPr/>
        </p:nvSpPr>
        <p:spPr>
          <a:xfrm>
            <a:off x="5724360" y="1619280"/>
            <a:ext cx="2841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Постро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цепочки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заме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каждый раз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исход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лов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одну бук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39640" y="638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р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451640" y="5541840"/>
            <a:ext cx="970200" cy="7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5"/>
          <p:cNvSpPr/>
          <p:nvPr/>
        </p:nvSpPr>
        <p:spPr>
          <a:xfrm>
            <a:off x="146160" y="981000"/>
            <a:ext cx="88898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1. Босова Л.Л. Информатика: Учебник для 5 класса. – М.: БИНОМ. Лаборатория знаний,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2. Босова Л.Л. Информатика: рабочая тетрадь для 5 класса. – М.: БИНОМ. Лаборатория знаний,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3. Босова Л.Л. Набор цифровых образовательных ресурсов «Информатика 5-7». – М.: БИНОМ. Лаборатория знаний, 20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4.Материалы авторской мастерской Босовой Л.Л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1"/>
              </a:rPr>
              <a:t>http://metodist.lbz.ru/authors/informatika/3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5. Образовательно-информационный ресурс для учителей информатики, учащихся и всех-всех, кто интересуется ИТ. Методическая копилка учителя информатики.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2"/>
              </a:rPr>
              <a:t>http://www.metod-kopilka.ru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6. Карти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3"/>
              </a:rPr>
              <a:t>http://www.forchel.ru/uploads/posts/2011-05/1305560299_prevyu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4"/>
              </a:rPr>
              <a:t>http://quadropolis.us/files/music-note-icon_Copy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5"/>
              </a:rPr>
              <a:t>http://www.bookin.org.ru/book/275689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6"/>
              </a:rPr>
              <a:t>http://img10.proshkolu.ru/content/media/pic/std/4000000/3525000/3524102-3386d2d119d450a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7"/>
              </a:rPr>
              <a:t>http://www.motto.net.ua/pic/201209/1152x864/motto.net.ua-1237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8"/>
              </a:rPr>
              <a:t>http://www.itpremium.com/portfolio/2dgraphics/wizard.jpg?width=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9"/>
              </a:rPr>
              <a:t>http://supersadovod.ru/wp-content/uploads/2014/01/preview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1a3dc1"/>
                </a:solidFill>
                <a:uFillTx/>
                <a:latin typeface="Arial"/>
                <a:ea typeface="Calibri"/>
              </a:rPr>
              <a:t>http://alekor.by/pics/catalog/product/img/16137_im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73"/>
                </a:solidFill>
                <a:latin typeface="Arial"/>
              </a:rPr>
              <a:t>http://rebus1.com/index.php?item=rebus_generator&amp;enter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73"/>
                </a:solidFill>
                <a:latin typeface="Arial"/>
              </a:rPr>
              <a:t>http://scienceblog.ru/wp-content/uploads/drawing1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73"/>
                </a:solidFill>
                <a:latin typeface="Arial"/>
              </a:rPr>
              <a:t>http://s8.uploads.ru/FSIa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73"/>
                </a:solidFill>
                <a:latin typeface="Arial"/>
              </a:rPr>
              <a:t>http://a304.phobos.apple.com/us/r1000/098/Purple/v4/50/91/e1/5091e1e4-77ce-daec-ec21-a3db193efa05/mzl.ryxxiegq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озенфельд А.Б. PowerPoint и интерактивная доска. Перемещение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0"/>
          <a:stretch/>
        </p:blipFill>
        <p:spPr>
          <a:xfrm>
            <a:off x="146160" y="0"/>
            <a:ext cx="8997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rcRect l="0" t="0" r="-52" b="-7"/>
          <a:stretch/>
        </p:blipFill>
        <p:spPr>
          <a:xfrm>
            <a:off x="1486080" y="1773360"/>
            <a:ext cx="3220920" cy="4608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705960" y="380880"/>
            <a:ext cx="800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мкость, в которой может храниться мус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од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5300640"/>
            <a:ext cx="96984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187280" y="1895400"/>
            <a:ext cx="5642280" cy="4213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873080" y="333360"/>
            <a:ext cx="51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Растение, семена котор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бавляют в 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5589720"/>
            <a:ext cx="97020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5400" y="1700280"/>
            <a:ext cx="5752800" cy="4314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716040" y="38088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диница меры длины, равная рас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Между стопами ног при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5445000"/>
            <a:ext cx="969840" cy="7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0" t="0" r="-56" b="0"/>
          <a:stretch/>
        </p:blipFill>
        <p:spPr>
          <a:xfrm>
            <a:off x="1235160" y="1700280"/>
            <a:ext cx="3024000" cy="50529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1202040" y="189000"/>
            <a:ext cx="618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Человек, который владе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тайнами магии, чаро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5986440"/>
            <a:ext cx="96984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58720" y="2781360"/>
            <a:ext cx="3221280" cy="3859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424800" y="1557360"/>
            <a:ext cx="807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Тема уро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«Кодирование информац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06560" y="17640"/>
            <a:ext cx="74865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79" name="Группа 1"/>
          <p:cNvGrpSpPr/>
          <p:nvPr/>
        </p:nvGrpSpPr>
        <p:grpSpPr>
          <a:xfrm>
            <a:off x="1682640" y="1268280"/>
            <a:ext cx="7461360" cy="1508400"/>
            <a:chOff x="1682640" y="1268280"/>
            <a:chExt cx="7461360" cy="1508400"/>
          </a:xfrm>
        </p:grpSpPr>
        <p:pic>
          <p:nvPicPr>
            <p:cNvPr id="180" name="Picture 3" descr=""/>
            <p:cNvPicPr/>
            <p:nvPr/>
          </p:nvPicPr>
          <p:blipFill>
            <a:blip r:embed="rId2"/>
            <a:stretch/>
          </p:blipFill>
          <p:spPr>
            <a:xfrm>
              <a:off x="1682640" y="1268280"/>
              <a:ext cx="746136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" descr=""/>
            <p:cNvPicPr/>
            <p:nvPr/>
          </p:nvPicPr>
          <p:blipFill>
            <a:blip r:embed="rId3"/>
            <a:stretch/>
          </p:blipFill>
          <p:spPr>
            <a:xfrm>
              <a:off x="2535480" y="1585800"/>
              <a:ext cx="596808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330120" y="1744560"/>
            <a:ext cx="1352520" cy="99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5"/>
          <a:stretch/>
        </p:blipFill>
        <p:spPr>
          <a:xfrm>
            <a:off x="25560" y="3060720"/>
            <a:ext cx="1371600" cy="180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6"/>
          <a:stretch/>
        </p:blipFill>
        <p:spPr>
          <a:xfrm>
            <a:off x="1619280" y="4057560"/>
            <a:ext cx="1314360" cy="106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7"/>
          <a:srcRect l="12632" t="12451" r="12632" b="17992"/>
          <a:stretch/>
        </p:blipFill>
        <p:spPr>
          <a:xfrm>
            <a:off x="330120" y="1697040"/>
            <a:ext cx="1352520" cy="10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8"/>
          <a:stretch/>
        </p:blipFill>
        <p:spPr>
          <a:xfrm>
            <a:off x="1820880" y="2776680"/>
            <a:ext cx="1438200" cy="100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9"/>
          <a:stretch/>
        </p:blipFill>
        <p:spPr>
          <a:xfrm>
            <a:off x="387360" y="5445000"/>
            <a:ext cx="12952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10"/>
          <a:srcRect l="11834" t="14166" r="9162" b="13123"/>
          <a:stretch/>
        </p:blipFill>
        <p:spPr>
          <a:xfrm>
            <a:off x="330120" y="5519880"/>
            <a:ext cx="14907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11"/>
          <a:srcRect l="12121" t="14885" r="11968" b="10016"/>
          <a:stretch/>
        </p:blipFill>
        <p:spPr>
          <a:xfrm>
            <a:off x="1911240" y="2735280"/>
            <a:ext cx="1432080" cy="116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"/>
          <p:cNvPicPr/>
          <p:nvPr/>
        </p:nvPicPr>
        <p:blipFill>
          <a:blip r:embed="rId12"/>
          <a:srcRect l="13720" t="14369" r="13720" b="14880"/>
          <a:stretch/>
        </p:blipFill>
        <p:spPr>
          <a:xfrm>
            <a:off x="1619280" y="4124160"/>
            <a:ext cx="1314360" cy="1095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"/>
          <p:cNvPicPr/>
          <p:nvPr/>
        </p:nvPicPr>
        <p:blipFill>
          <a:blip r:embed="rId13"/>
          <a:stretch/>
        </p:blipFill>
        <p:spPr>
          <a:xfrm>
            <a:off x="4067280" y="2637000"/>
            <a:ext cx="399240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"/>
          <p:cNvPicPr/>
          <p:nvPr/>
        </p:nvPicPr>
        <p:blipFill>
          <a:blip r:embed="rId14"/>
          <a:stretch/>
        </p:blipFill>
        <p:spPr>
          <a:xfrm>
            <a:off x="4629240" y="2957400"/>
            <a:ext cx="2923920" cy="64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"/>
          <p:cNvPicPr/>
          <p:nvPr/>
        </p:nvPicPr>
        <p:blipFill>
          <a:blip r:embed="rId15"/>
          <a:stretch/>
        </p:blipFill>
        <p:spPr>
          <a:xfrm>
            <a:off x="3817800" y="4057560"/>
            <a:ext cx="48546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8" descr=""/>
          <p:cNvPicPr/>
          <p:nvPr/>
        </p:nvPicPr>
        <p:blipFill>
          <a:blip r:embed="rId16"/>
          <a:stretch/>
        </p:blipFill>
        <p:spPr>
          <a:xfrm>
            <a:off x="4535640" y="4368960"/>
            <a:ext cx="341928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"/>
          <p:cNvPicPr/>
          <p:nvPr/>
        </p:nvPicPr>
        <p:blipFill>
          <a:blip r:embed="rId17"/>
          <a:stretch/>
        </p:blipFill>
        <p:spPr>
          <a:xfrm>
            <a:off x="2276640" y="5299200"/>
            <a:ext cx="6095880" cy="1442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18"/>
          <a:stretch/>
        </p:blipFill>
        <p:spPr>
          <a:xfrm>
            <a:off x="2657520" y="5634000"/>
            <a:ext cx="5286240" cy="62244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вправо 21">
            <a:hlinkClick r:id="rId19" action="ppaction://hlinksldjump"/>
          </p:cNvPr>
          <p:cNvSpPr/>
          <p:nvPr/>
        </p:nvSpPr>
        <p:spPr>
          <a:xfrm>
            <a:off x="8048520" y="189000"/>
            <a:ext cx="936720" cy="647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0" descr=""/>
          <p:cNvPicPr/>
          <p:nvPr/>
        </p:nvPicPr>
        <p:blipFill>
          <a:blip r:embed="rId1"/>
          <a:stretch/>
        </p:blipFill>
        <p:spPr>
          <a:xfrm>
            <a:off x="395280" y="5084640"/>
            <a:ext cx="1743120" cy="14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2"/>
          <a:stretch/>
        </p:blipFill>
        <p:spPr>
          <a:xfrm>
            <a:off x="108000" y="3803760"/>
            <a:ext cx="2362320" cy="105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rcRect l="7260" t="0" r="24739" b="6352"/>
          <a:stretch/>
        </p:blipFill>
        <p:spPr>
          <a:xfrm>
            <a:off x="1001880" y="2220840"/>
            <a:ext cx="984240" cy="1479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4"/>
          <a:srcRect l="0" t="0" r="0" b="257"/>
          <a:stretch/>
        </p:blipFill>
        <p:spPr>
          <a:xfrm>
            <a:off x="600120" y="476280"/>
            <a:ext cx="1333440" cy="1396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5"/>
          <a:stretch/>
        </p:blipFill>
        <p:spPr>
          <a:xfrm>
            <a:off x="2924280" y="176688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6"/>
          <a:stretch/>
        </p:blipFill>
        <p:spPr>
          <a:xfrm>
            <a:off x="5189400" y="1795320"/>
            <a:ext cx="1067040" cy="781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7"/>
          <a:srcRect l="7410" t="7213" r="8648" b="5657"/>
          <a:stretch/>
        </p:blipFill>
        <p:spPr>
          <a:xfrm>
            <a:off x="7097760" y="3193920"/>
            <a:ext cx="1415880" cy="117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8"/>
          <a:srcRect l="12254" t="15092" r="0" b="15066"/>
          <a:stretch/>
        </p:blipFill>
        <p:spPr>
          <a:xfrm>
            <a:off x="6891480" y="5084640"/>
            <a:ext cx="1830240" cy="9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9"/>
          <a:srcRect l="0" t="0" r="83" b="-192"/>
          <a:stretch/>
        </p:blipFill>
        <p:spPr>
          <a:xfrm>
            <a:off x="6891480" y="1405080"/>
            <a:ext cx="1741320" cy="131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10"/>
          <a:stretch/>
        </p:blipFill>
        <p:spPr>
          <a:xfrm>
            <a:off x="2614680" y="3579840"/>
            <a:ext cx="3914640" cy="30099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2"/>
          <p:cNvSpPr/>
          <p:nvPr/>
        </p:nvSpPr>
        <p:spPr>
          <a:xfrm>
            <a:off x="2593800" y="171360"/>
            <a:ext cx="51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обери в компьютер числовую информаци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право 1">
            <a:hlinkClick r:id="rId11" action="ppaction://hlinksldjump"/>
          </p:cNvPr>
          <p:cNvSpPr/>
          <p:nvPr/>
        </p:nvSpPr>
        <p:spPr>
          <a:xfrm>
            <a:off x="8023320" y="260280"/>
            <a:ext cx="936360" cy="647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L 0.32083 0.29931 E">
                                      <p:cBhvr>
                                        <p:cTn id="4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9537 L 0.04167 0.34537 E">
                                      <p:cBhvr>
                                        <p:cTn id="4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10226 0.41227 E">
                                      <p:cBhvr>
                                        <p:cTn id="5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-0.36146 0.17963 E">
                                      <p:cBhvr>
                                        <p:cTn id="59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33073 -0.0419 E">
                                      <p:cBhvr>
                                        <p:cTn id="64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КАТЯ</cp:lastModifiedBy>
  <dcterms:modified xsi:type="dcterms:W3CDTF">2015-04-16T16:51:05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220000000000010262800207f7000400038000</vt:lpwstr>
  </property>
</Properties>
</file>